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772-37A7-4E74-9A53-DA776266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45D-2DBF-4E19-9B50-2AF220E9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2E7-2CF2-4790-AF58-BFB43CD0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DEE-B528-4A6D-83E7-F7799D66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37BD-A880-4C34-ABB2-1EA6C2B5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15DC-B7F9-476E-871A-EC34E590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E80-0789-4B47-8F13-2FD20FF9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DA86-6BC0-4332-8825-2E057FDF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251E-137D-43FE-B3BF-997731C2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7064-4FE0-4F9B-8717-683F63C1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3338-24C4-4FDF-9C92-DC7D34E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487-DE86-4E5F-930A-BD450C9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DCA3-DD52-4D63-B691-76098D2E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0378-FDBE-4569-8F11-E11A300B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1C04-2E05-46ED-B7B8-7ABB9AC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CB68-16D7-46DC-80BD-05BC85B0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3C36-EBB4-4CAE-BA40-7B5265F8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4F5-1403-4275-971E-B423CAF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D69-9E58-4FC9-ABD4-28D4F397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802-C48B-40FB-8369-B2AB56D3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0AB-BEBA-48AC-9C98-BD7828A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8F5-477F-49FA-BE06-B710D95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DBE-87B8-4A69-8077-3312C47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302-A25B-467F-A0CD-85DA4E97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9A31-8567-463F-852C-B63EA53361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125-E34C-4A06-B980-3FBC0D67BA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im – What is the legacy of Alexander the Great?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29 – Alexander the Gre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traits a good leader should hav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133360" y="15228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Child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of Greek Macedonian King Philip II– determined to prove himself to his father (may have had his father assassinated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er of a Huge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red Persian Empire to the east of Greece as well as parts of Asia and Africa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nted to conquer the whol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enemies that surrendered without a fight were treated with mercy and kindness; those that resisted and fought were brutally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lxhed1"/>
          <p:cNvPicPr/>
          <p:nvPr/>
        </p:nvPicPr>
        <p:blipFill>
          <a:blip r:embed="rId1"/>
          <a:stretch/>
        </p:blipFill>
        <p:spPr>
          <a:xfrm>
            <a:off x="0" y="3200400"/>
            <a:ext cx="22399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4496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ellen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read Greek culture and learning to conquer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diffusion-spread Asian/African ideas into Greek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accepting of other cultures ideas and blended them into Greek culture as he conquered new areas– This was a huge deal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ge 33, died of alcoholism? Malaria? Syphilis? Broken heart after his army refused to fight an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alexander-the-great-mosaic-alexandros-giannios"/>
          <p:cNvPicPr/>
          <p:nvPr/>
        </p:nvPicPr>
        <p:blipFill>
          <a:blip r:embed="rId1"/>
          <a:stretch/>
        </p:blipFill>
        <p:spPr>
          <a:xfrm>
            <a:off x="5049720" y="1719360"/>
            <a:ext cx="32338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lexander’s Empi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ClipArt Placeholder 4" descr=""/>
          <p:cNvPicPr/>
          <p:nvPr/>
        </p:nvPicPr>
        <p:blipFill>
          <a:blip r:embed="rId1"/>
          <a:srcRect l="0" t="-19985" r="0" b="-19985"/>
          <a:stretch/>
        </p:blipFill>
        <p:spPr>
          <a:xfrm>
            <a:off x="609480" y="914400"/>
            <a:ext cx="77630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10:40Z</dcterms:created>
  <dc:creator>NYCDOE</dc:creator>
  <dc:description/>
  <dc:language>en-US</dc:language>
  <cp:lastModifiedBy>NYCDOE</cp:lastModifiedBy>
  <dcterms:modified xsi:type="dcterms:W3CDTF">2012-11-06T12:03:21Z</dcterms:modified>
  <cp:revision>7</cp:revision>
  <dc:subject/>
  <dc:title>Aim – what is the legacy of Alexander the Great? </dc:title>
</cp:coreProperties>
</file>